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ummary of the study selection procedure. CAP, community acquired pneumonia. *One study did not include the terms ‘risk’ or ‘co-morbidity’/'comorbidity’ in either the title or abstract and so was not identified in the PubMed searches; however, ‘risk factors’ was included in the list of MeSH terms for the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factors for community-acquired pneumonia in adults in Europe: a literature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ntoni Torres, Willy E Peetermans, Giovanni Viegi, and Francesco Bl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68(11):1057-10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15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&amp; British Thoracic Societ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mmary of the study selection proced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5120" y="1079640"/>
            <a:ext cx="68151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351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toni Torres et al. Thorax 2013;68:1057-10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&amp; British Thoracic Societ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