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Serotype distribution of the study cohort. PCV-7 VT: serotype included within the 7-valent pneumococcal conjugate vaccine; PCV-13 VT: serotype included within the 13-valent pneumococcal conjugate vaccine; NVT: non vaccine-ty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980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rotype prevalence in adults hospitalised with pneumococcal non-invasive community-acquired pneumo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800" y="2259000"/>
            <a:ext cx="860436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y Thomas Bewick, Carmen Sheppard, Sonia Greenwood, Mary Slack, Caroline Trotter, Robert George, and Wei Shen L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8360" y="5641920"/>
            <a:ext cx="860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hor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olume 67(6):540-5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May 21, 2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7289640"/>
            <a:ext cx="7559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BMJ Publishing Group Ltd &amp; British Thoracic Societ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748720" y="6840360"/>
            <a:ext cx="900000" cy="5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rotype distribution of the study cohor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748720" y="6840360"/>
            <a:ext cx="900000" cy="576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673280" y="1079640"/>
            <a:ext cx="6737400" cy="5394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67328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homas Bewick et al. Thorax 2012;67:540-5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7289640"/>
            <a:ext cx="7559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BMJ Publishing Group Ltd &amp; British Thoracic Societ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